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7077075" cy="93916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7077600" cy="939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6720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4008240" y="-360"/>
            <a:ext cx="306684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90520" y="704520"/>
            <a:ext cx="4695840" cy="3522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3960" rIns="93960" tIns="47160" bIns="47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707760" y="4462560"/>
            <a:ext cx="5661000" cy="42256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8921520"/>
            <a:ext cx="306720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4008240" y="8921520"/>
            <a:ext cx="306684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26701-8360-49E6-BFAB-636565D4B6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90520" y="704880"/>
            <a:ext cx="4695840" cy="35226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07760" y="4462560"/>
            <a:ext cx="5661000" cy="422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4008600" y="8921880"/>
            <a:ext cx="30668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443F5-EEE1-439A-AD32-5537B1F234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90520" y="704880"/>
            <a:ext cx="4695840" cy="35226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707760" y="4462560"/>
            <a:ext cx="5661000" cy="422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4008600" y="8921880"/>
            <a:ext cx="30668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2EF86-9E9A-43E8-8F0C-B30BDE3609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90520" y="704880"/>
            <a:ext cx="4695840" cy="35226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707760" y="4462560"/>
            <a:ext cx="5661000" cy="422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4008600" y="8921880"/>
            <a:ext cx="30668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D54CB-5E10-4F1B-8205-6C6A414E7A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90520" y="704880"/>
            <a:ext cx="4695840" cy="35226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707760" y="4462560"/>
            <a:ext cx="5661000" cy="422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4008600" y="8921880"/>
            <a:ext cx="30668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5B5CE-03EC-4CC9-8D1B-8035E5A02A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90520" y="704880"/>
            <a:ext cx="4695840" cy="35226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07760" y="4462560"/>
            <a:ext cx="5661000" cy="422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4008600" y="8921880"/>
            <a:ext cx="30668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93B61-D377-49D1-B4D3-AAE044F240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90520" y="704880"/>
            <a:ext cx="4695840" cy="35226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707760" y="4462560"/>
            <a:ext cx="5661000" cy="422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4008600" y="8921880"/>
            <a:ext cx="30668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0F5DC-A600-4F32-B7A1-7F58BE4708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90520" y="704880"/>
            <a:ext cx="4695840" cy="35226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707760" y="4462560"/>
            <a:ext cx="5661000" cy="422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4008600" y="8921880"/>
            <a:ext cx="30668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CC5FE-5EA5-46F3-B936-13160374EC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90520" y="704880"/>
            <a:ext cx="4695840" cy="35226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707760" y="4462560"/>
            <a:ext cx="5661000" cy="422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Slide Number Placeholder 3"/>
          <p:cNvSpPr/>
          <p:nvPr/>
        </p:nvSpPr>
        <p:spPr>
          <a:xfrm>
            <a:off x="4008600" y="8921880"/>
            <a:ext cx="30668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8ED18-27A7-4343-99E6-93882702AF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90520" y="704880"/>
            <a:ext cx="4695840" cy="35226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707760" y="4462560"/>
            <a:ext cx="5661000" cy="422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Slide Number Placeholder 3"/>
          <p:cNvSpPr/>
          <p:nvPr/>
        </p:nvSpPr>
        <p:spPr>
          <a:xfrm>
            <a:off x="4008600" y="8921880"/>
            <a:ext cx="30668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A70A4-4631-4372-9BD4-AA54A98E89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90520" y="704880"/>
            <a:ext cx="4695840" cy="35226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707760" y="4462560"/>
            <a:ext cx="5661000" cy="422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4008600" y="8921880"/>
            <a:ext cx="30668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3C8FB-496E-4002-BDCB-961FE6C121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5015D-D08E-47D7-B1CB-F295DC186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20B70-E922-428A-A2E6-B6FC06909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5AEA0-80EC-43B4-94B7-55D499092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26FE5-2983-4362-BD65-43B5B01BD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CD19D-E3A9-41BA-8F2A-D12C9AA57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AE7DE-23A6-492F-87E0-4E6ECA154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999EE-5405-4316-AE27-B9E2E05CE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334D4-ADE1-4C0D-A9B6-E9FA2A553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A2F52-7908-450B-B4C9-0C347E2A6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7226B-666A-4394-96CA-DD9BFC9EE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BC8A4-90B0-402E-B5C9-1ECCC2B76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1EAE3-7340-47A3-9B8E-C5D1F4F1A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72DF4-69A3-4664-ABE1-23175AA3AF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7" descr="image_search_retrieve_classifify_tag_filter_recognition"/>
          <p:cNvPicPr/>
          <p:nvPr/>
        </p:nvPicPr>
        <p:blipFill>
          <a:blip r:embed="rId2"/>
          <a:stretch/>
        </p:blipFill>
        <p:spPr>
          <a:xfrm>
            <a:off x="228600" y="5794200"/>
            <a:ext cx="4343400" cy="933480"/>
          </a:xfrm>
          <a:prstGeom prst="rect">
            <a:avLst/>
          </a:prstGeom>
          <a:ln w="0">
            <a:noFill/>
          </a:ln>
        </p:spPr>
      </p:pic>
      <p:pic>
        <p:nvPicPr>
          <p:cNvPr id="6" name="Picture 8" descr="image_search_retrieve_classifify_tag_filter_recognition"/>
          <p:cNvPicPr/>
          <p:nvPr/>
        </p:nvPicPr>
        <p:blipFill>
          <a:blip r:embed="rId3"/>
          <a:stretch/>
        </p:blipFill>
        <p:spPr>
          <a:xfrm>
            <a:off x="4572000" y="5791320"/>
            <a:ext cx="4343400" cy="933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361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ook Antiqua"/>
              </a:rPr>
              <a:t>Terbium Brand System Solutions</a:t>
            </a:r>
            <a:br>
              <a:rPr sz="4000"/>
            </a:b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Improving the Creation of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Book Antiqua"/>
              </a:rPr>
              <a:t>“</a:t>
            </a:r>
            <a:r>
              <a:rPr b="0" i="1" lang="en-US" sz="2600" spc="-1" strike="noStrike">
                <a:solidFill>
                  <a:srgbClr val="000000"/>
                </a:solidFill>
                <a:latin typeface="Book Antiqua"/>
              </a:rPr>
              <a:t>A Core is worth a Thousand Words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Bill Mens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02-08-2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image_search_retrieve_classifify_tag_filter_recognition"/>
          <p:cNvPicPr/>
          <p:nvPr/>
        </p:nvPicPr>
        <p:blipFill>
          <a:blip r:embed="rId1"/>
          <a:stretch/>
        </p:blipFill>
        <p:spPr>
          <a:xfrm>
            <a:off x="1143000" y="457200"/>
            <a:ext cx="6792840" cy="1460520"/>
          </a:xfrm>
          <a:prstGeom prst="rect">
            <a:avLst/>
          </a:prstGeom>
          <a:ln w="0">
            <a:noFill/>
          </a:ln>
        </p:spPr>
      </p:pic>
      <p:sp>
        <p:nvSpPr>
          <p:cNvPr id="53" name="Text Box 7"/>
          <p:cNvSpPr/>
          <p:nvPr/>
        </p:nvSpPr>
        <p:spPr>
          <a:xfrm>
            <a:off x="2438280" y="220968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80880" y="220932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pplications are Only Limited by Your Imagination…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459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51920" y="1219320"/>
            <a:ext cx="8991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What we’ve talked about today just scratches the surface of how to leverage the 65xx IP Library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xt Meeting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ailed Demonst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chnical Integration Discu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ftware Development K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aluation Timeline &amp; Go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e look forward to our future partnership with the “Your” Team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sentation Go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-591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gineers are exploring ways to create system solutions faster, lower cost, and more reliab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ution must align with the follow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60840" indent="-517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ccessful system solutions Philosophy “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Focus on the user and all else will follow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60840" indent="-517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uccessful system “Mission is to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design and produ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e world's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est solution for the intended market focu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make it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usefu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universally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vailab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60840" indent="-517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ix elements of 65xx IP Library core business that separates us from our competition: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pplication assigned speed, adaptability, reliability, partnerships, ease of use, and cost aligned with market nee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oday’s Meeting We W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30200" indent="-4431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ide the Terbium/65xx IP Library Solution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30200" indent="-4431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cussion of Bene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30200" indent="-4431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line Next Ste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for Improved System Level Sol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the Terbium Brand 65xx IP Librar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is it used with FPGA’s and ASIC’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ck Example using PMCU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nefits to the Custo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ication Exten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eds Analy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4582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gital system solutions using ready made IP blocks became widely available to system designers in 199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owing Market – Industry wide digital system shipments continually rise at a more rapid rate each year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year system users typically want more “features”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ery two to four years you need to deliver a new system with new featur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Which means your end customers are falling behind the usefulness curve  if we don’t get new systems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re is a need to help the end customer more quickly, efficiently use new system solution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5xx IP Library provides a reliable solution with ease of use and quick time to marke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65xx IP Librar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5xx IP Library means 8-bit, 16-bit, 32-bit and beyond processing solutions with the addressable register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able Register Architecture is NOT RISC and NOT CISC and is the differentiator of the 65xx/Terbium br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te system developed in reusable soft HDL/RTL IP Cores and C/C++ Objects that enables users to quickly design and prove system level sol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tented and copyrighted technology software that allows users to easily create new system sol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viously only available from several different suppliers as 8-bit or 16-bit or 32-bit solutions or beyond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does it work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ocess is quite simple: begin with your existing solution hardware and software, swap out your existing processor, add the optimal data path solutions and add the new user featur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chnology stems from a 2 part process: identification of the feature and matching with the system solution and optimized data path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gn and simulate the hardware in Verilog Hardware Description Language RT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e in Terbi’s, off-the-shelf PCB, or custom FPGA PC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st reduce with ASIC implementation when nee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hind the Scene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6"/>
          <p:cNvSpPr/>
          <p:nvPr/>
        </p:nvSpPr>
        <p:spPr>
          <a:xfrm>
            <a:off x="1981080" y="1474920"/>
            <a:ext cx="4648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y kind of feature is used for inp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Group 21"/>
          <p:cNvGrpSpPr/>
          <p:nvPr/>
        </p:nvGrpSpPr>
        <p:grpSpPr>
          <a:xfrm>
            <a:off x="2590920" y="2119320"/>
            <a:ext cx="3390480" cy="2700000"/>
            <a:chOff x="2590920" y="2119320"/>
            <a:chExt cx="3390480" cy="2700000"/>
          </a:xfrm>
        </p:grpSpPr>
        <p:sp>
          <p:nvSpPr>
            <p:cNvPr id="67" name="Text Box 5"/>
            <p:cNvSpPr/>
            <p:nvPr/>
          </p:nvSpPr>
          <p:spPr>
            <a:xfrm>
              <a:off x="2590920" y="2119320"/>
              <a:ext cx="335268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ystem Feature Selec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Text Box 11"/>
            <p:cNvSpPr/>
            <p:nvPr/>
          </p:nvSpPr>
          <p:spPr>
            <a:xfrm>
              <a:off x="2609640" y="2762280"/>
              <a:ext cx="3352680" cy="368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65xx™ IP Librar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Text Box 13"/>
            <p:cNvSpPr/>
            <p:nvPr/>
          </p:nvSpPr>
          <p:spPr>
            <a:xfrm>
              <a:off x="2619360" y="3471840"/>
              <a:ext cx="335232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eature Resul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Text Box 14"/>
            <p:cNvSpPr/>
            <p:nvPr/>
          </p:nvSpPr>
          <p:spPr>
            <a:xfrm>
              <a:off x="2628720" y="4176720"/>
              <a:ext cx="3352680" cy="642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pplication specific po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rocess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" name="Text Box 18"/>
          <p:cNvSpPr/>
          <p:nvPr/>
        </p:nvSpPr>
        <p:spPr>
          <a:xfrm>
            <a:off x="6496200" y="2760840"/>
            <a:ext cx="2361960" cy="3682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del Data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9"/>
          <p:cNvSpPr/>
          <p:nvPr/>
        </p:nvSpPr>
        <p:spPr>
          <a:xfrm>
            <a:off x="6419880" y="3429000"/>
            <a:ext cx="2495520" cy="13219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Load processor 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elect the data pa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ave the model in the datab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est the solution on a defined c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20"/>
          <p:cNvSpPr/>
          <p:nvPr/>
        </p:nvSpPr>
        <p:spPr>
          <a:xfrm>
            <a:off x="6410160" y="3124080"/>
            <a:ext cx="2438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Easy Model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22"/>
          <p:cNvSpPr/>
          <p:nvPr/>
        </p:nvSpPr>
        <p:spPr>
          <a:xfrm>
            <a:off x="5962680" y="2895480"/>
            <a:ext cx="533520" cy="152640"/>
          </a:xfrm>
          <a:prstGeom prst="leftRightArrow">
            <a:avLst>
              <a:gd name="adj1" fmla="val 50000"/>
              <a:gd name="adj2" fmla="val 695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23"/>
          <p:cNvSpPr/>
          <p:nvPr/>
        </p:nvSpPr>
        <p:spPr>
          <a:xfrm>
            <a:off x="4086360" y="2514600"/>
            <a:ext cx="152280" cy="2286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24"/>
          <p:cNvSpPr/>
          <p:nvPr/>
        </p:nvSpPr>
        <p:spPr>
          <a:xfrm>
            <a:off x="4095720" y="3857760"/>
            <a:ext cx="152280" cy="3045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25"/>
          <p:cNvSpPr/>
          <p:nvPr/>
        </p:nvSpPr>
        <p:spPr>
          <a:xfrm>
            <a:off x="4095720" y="3152880"/>
            <a:ext cx="152280" cy="295200"/>
          </a:xfrm>
          <a:prstGeom prst="downArrow">
            <a:avLst>
              <a:gd name="adj1" fmla="val 50000"/>
              <a:gd name="adj2" fmla="val 4846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grammable MCU Concept…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520" y="3805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3"/>
          <p:cNvSpPr/>
          <p:nvPr/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rt with the Terbium Developer Kit best suited for the app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65C02SPMCU 8-bit MC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65C816SPMCU 8/16-bit MC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features for the new data path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ulate in Veril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ulate in FP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ify in sign-off simulator after P&amp;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nef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458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hance the User Exper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ments your Expertise in “Your market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ension to “Associated” mark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ets Your Require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al &amp;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Easy to U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Can be tuned for any appl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Reliabilit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Certified for use in human life support de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Real Tim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 Can be tuned for any performance required for the most demanding tas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Scalabilit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Can be scaled to any size or power appl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 and System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ost Red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quickly leveraging our proven technology, “You” can focus on improving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User Experien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5T15:13:00Z</dcterms:created>
  <dc:creator>Elizabeth Duncan</dc:creator>
  <dc:description/>
  <dc:language>en-US</dc:language>
  <cp:lastModifiedBy>Bill</cp:lastModifiedBy>
  <dcterms:modified xsi:type="dcterms:W3CDTF">2010-02-08T19:17:50Z</dcterms:modified>
  <cp:revision>85</cp:revision>
  <dc:subject/>
  <dc:title>Slide 1</dc:title>
</cp:coreProperties>
</file>